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2C9-0EB3-4653-87AB-3B5A47B5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1F4-13B8-4EE2-BFE1-30718B5F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F29-1FA4-46C6-B2E2-DD2001E7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7B6-2FD0-4112-A705-CAF3D315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B81-56DF-494D-8270-10E7AADC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C9A-09F6-4FA9-9CCE-170AB487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424-57EF-4721-B35F-81BB6D92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629-12A9-45A9-8C31-55EE356B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7EB-C925-4E30-90AA-68F4A504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CEA-F1BF-45D8-A03A-DC540F42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C4E-F990-4E60-BADC-09FD4690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576-586C-44DB-9AF0-70874ED9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EBF4-2F34-4A16-B3F0-274140F08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hk.wrs.yahoo.com/_ylt=A3xsaCcgDQtKgr0A5Iq.ygt./SIG=11r4ogcbk/EXP=1242324640/**http%3A//www.ohjohnny.net/contest/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4572000" cy="365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harlie and the Chocolate Factory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Your tour to the Chocolate Factor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58000" y="0"/>
            <a:ext cx="2286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http://hk.wrs.yahoo.com/_ylt=A8tU32w7_QpKSXABxG..ygt./SIG=12ab8p5kp/EXP=1242320571/**http%3A//static.flickr.com/1288/570321419_555f6a4793.jpg"/>
          <p:cNvPicPr/>
          <p:nvPr/>
        </p:nvPicPr>
        <p:blipFill>
          <a:blip r:embed="rId2"/>
          <a:stretch/>
        </p:blipFill>
        <p:spPr>
          <a:xfrm>
            <a:off x="457200" y="4648320"/>
            <a:ext cx="2057400" cy="163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87640" y="4797360"/>
            <a:ext cx="4969080" cy="1557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radley Hand ITC"/>
              </a:rPr>
              <a:t>BANTA BOG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radley Hand ITC"/>
              </a:rPr>
              <a:t>CRUCERU ANDR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radley Hand ITC"/>
              </a:rPr>
              <a:t>NEDELCU LOR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http://hk.wrs.yahoo.com/_ylt=A3xsaCbC1QpK9PoAmCe.ygt./SIG=12v2m66cr/EXP=1242310466/**http%3A//www.ruggedelegantliving.com/a/images/Charlie.Chocolate.Factory.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"/>
          <p:cNvSpPr/>
          <p:nvPr/>
        </p:nvSpPr>
        <p:spPr>
          <a:xfrm>
            <a:off x="2666880" y="4038480"/>
            <a:ext cx="6248520" cy="259092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ro-RO" sz="2400" spc="-1" strike="noStrike">
                <a:solidFill>
                  <a:srgbClr val="3333cc"/>
                </a:solidFill>
                <a:latin typeface="Arial"/>
              </a:rPr>
              <a:t>OO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3333cc"/>
                </a:solidFill>
                <a:latin typeface="Arial"/>
              </a:rPr>
              <a:t>LUC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everyone! Your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ll tell you who </a:t>
            </a:r>
            <a:r>
              <a:rPr b="0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get</a:t>
            </a:r>
            <a:r>
              <a:rPr b="0" lang="ro-RO" sz="2400" spc="-1" strike="noStrike">
                <a:solidFill>
                  <a:srgbClr val="ff3300"/>
                </a:solidFill>
                <a:latin typeface="바탕"/>
                <a:ea typeface="바탕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he pr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http://hk.wrs.yahoo.com/_ylt=A8tU320EFQtKWw0AVEi.ygt./SIG=11rkv6ljm/EXP=1242326660/**http%3A//www.ohjohnny.net/contest/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osty"/>
              </a:rPr>
              <a:t>You are the</a:t>
            </a:r>
            <a:r>
              <a:rPr b="0" lang="en-US" sz="4400" spc="-1" strike="noStrike">
                <a:solidFill>
                  <a:srgbClr val="3333cc"/>
                </a:solidFill>
                <a:latin typeface="Frosty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Frosty"/>
              </a:rPr>
              <a:t>lucky </a:t>
            </a:r>
            <a:r>
              <a:rPr b="0" lang="en-US" sz="4400" spc="-1" strike="noStrike">
                <a:solidFill>
                  <a:srgbClr val="ffffff"/>
                </a:solidFill>
                <a:latin typeface="Frosty"/>
              </a:rPr>
              <a:t>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514600" y="3581280"/>
            <a:ext cx="6629400" cy="3048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895480" y="3962520"/>
            <a:ext cx="62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illy Wonka </a:t>
            </a:r>
            <a:r>
              <a:rPr b="0" lang="ro-RO" sz="2400" spc="-1" strike="noStrike">
                <a:solidFill>
                  <a:srgbClr val="0033cc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inviting 5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Hong Kong to visit his chocolate fact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ou have bought a bar of Wo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hocolate and won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olden ticket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! You have </a:t>
            </a:r>
            <a:r>
              <a:rPr b="0" lang="ro-RO" sz="2400" spc="-1" strike="noStrike">
                <a:solidFill>
                  <a:srgbClr val="0033cc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hance to visit his chocolate fa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3200400"/>
            <a:ext cx="3276720" cy="2133720"/>
          </a:xfrm>
          <a:prstGeom prst="irregularSeal1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http://hk.wrs.yahoo.com/_ylt=A8tU321J_QpK.mMBdEi.ygt./SIG=12dp79b7e/EXP=1242320585/**http%3A//img360.imageshack.us/img360/6294/willywonka4ql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9880" y="837720"/>
            <a:ext cx="518184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Welcome, </a:t>
            </a:r>
            <a:r>
              <a:rPr b="1" lang="ro-RO" sz="2800" spc="-1" strike="noStrike">
                <a:solidFill>
                  <a:srgbClr val="6600cc"/>
                </a:solidFill>
                <a:latin typeface="Arial"/>
              </a:rPr>
              <a:t>children</a:t>
            </a: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    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Congratulations! You are so lucky that you have </a:t>
            </a:r>
            <a:r>
              <a:rPr b="0" lang="ro-RO" sz="2800" spc="-1" strike="noStrike">
                <a:solidFill>
                  <a:srgbClr val="6600cc"/>
                </a:solidFill>
                <a:latin typeface="Arial"/>
              </a:rPr>
              <a:t>won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 a visit to my chocolate factory. One of you can get a special prize at the end of the tour. But you have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risten ITC"/>
              </a:rPr>
              <a:t>finish 4 tasks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 in order to get the prize. I will choose the best kid at the end. Let’s g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W. Wo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191120" y="152280"/>
            <a:ext cx="43434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ssage from Wo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http://hk.wrs.yahoo.com/_ylt=A8tU32tfAgtKi80AYFe.ygt./SIG=12boaoc5s/EXP=1242321887/**http%3A//static.flickr.com/1029/1139854427_53ee8a970f.jpg"/>
          <p:cNvPicPr/>
          <p:nvPr/>
        </p:nvPicPr>
        <p:blipFill>
          <a:blip r:embed="rId1"/>
          <a:stretch/>
        </p:blipFill>
        <p:spPr>
          <a:xfrm>
            <a:off x="4876920" y="3809880"/>
            <a:ext cx="1981080" cy="247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hk.wrs.yahoo.com/_ylt=A8tU321J_QpK.mMBdEi.ygt./SIG=12dp79b7e/EXP=1242320585/**http%3A//img360.imageshack.us/img360/6294/willywonka4ql.jpg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3809880" y="838080"/>
            <a:ext cx="518184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Task One (Story M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   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As you know, I couldn't remember much about my childhood.  So, I would like to keep a diary from now on. Do you still remember the things happened with Charlie and other kids in my factory? Please help m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risten ITC"/>
              </a:rPr>
              <a:t>finish the map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W. Wo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6" descr="http://hk.wrs.yahoo.com/_ylt=A3xsaCUp2gpK2NwASI6.ygt./SIG=131c3uohp/EXP=1242311593/**http%3A//thecia.com.au/reviews/c/images/charlie-and-the-chocolate-factory-4.jpg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ory Ma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2340000" y="3213000"/>
            <a:ext cx="396252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0" y="1981080"/>
            <a:ext cx="289548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you lea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e sto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6324480" y="2362320"/>
            <a:ext cx="281952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in the sto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7"/>
          <p:cNvSpPr/>
          <p:nvPr/>
        </p:nvSpPr>
        <p:spPr>
          <a:xfrm>
            <a:off x="914400" y="5029200"/>
            <a:ext cx="3505320" cy="1523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ies do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haracter fa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8"/>
          <p:cNvSpPr/>
          <p:nvPr/>
        </p:nvSpPr>
        <p:spPr>
          <a:xfrm>
            <a:off x="5715000" y="4800600"/>
            <a:ext cx="320040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the charac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 the probl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"/>
          <p:cNvSpPr/>
          <p:nvPr/>
        </p:nvSpPr>
        <p:spPr>
          <a:xfrm>
            <a:off x="3581280" y="1066680"/>
            <a:ext cx="3657600" cy="1600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e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y take place)?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5909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5943600" y="44956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2411280" y="32846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47242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6248160" y="37339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http://hk.wrs.yahoo.com/_ylt=A8tU321J_QpK.mMBdEi.ygt./SIG=12dp79b7e/EXP=1242320585/**http%3A//img360.imageshack.us/img360/6294/willywonka4ql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y Attention to the not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5486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Task Two (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 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Great! You’ve finished task one. I</a:t>
            </a: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am making a new candy in the chocolate factory!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ad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my new recipe with your teacher. Then, find a candy recipe on from the web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paste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 it on the worksheet.                               </a:t>
            </a:r>
            <a:r>
              <a:rPr b="1" i="1" lang="en-US" sz="2800" spc="-1" strike="noStrike">
                <a:solidFill>
                  <a:srgbClr val="6600cc"/>
                </a:solidFill>
                <a:latin typeface="Kristen ITC"/>
              </a:rPr>
              <a:t>W.Wo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http://hk.wrs.yahoo.com/_ylt=A8tU321J_QpK.mMBdEi.ygt./SIG=12dp79b7e/EXP=1242320585/**http%3A//img360.imageshack.us/img360/6294/willywonka4ql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505320" y="1295280"/>
            <a:ext cx="5486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Task Three (Wr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Now you have come to task three. Here, you have to </a:t>
            </a:r>
            <a:r>
              <a:rPr b="1" lang="ro-RO" sz="3200" spc="-1" strike="noStrike" u="sng">
                <a:solidFill>
                  <a:srgbClr val="ff3300"/>
                </a:solidFill>
                <a:uFillTx/>
                <a:latin typeface="Arial"/>
              </a:rPr>
              <a:t>write a book r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eview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with your classmates. After tha</a:t>
            </a:r>
            <a:r>
              <a:rPr b="0" lang="ro-RO" sz="3200" spc="-1" strike="noStrike">
                <a:solidFill>
                  <a:srgbClr val="6600cc"/>
                </a:solidFill>
                <a:latin typeface="Arial"/>
              </a:rPr>
              <a:t>t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ro-RO" sz="3200" spc="-1" strike="noStrike">
                <a:solidFill>
                  <a:srgbClr val="6600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f I like your </a:t>
            </a:r>
            <a:r>
              <a:rPr b="0" lang="ro-RO" sz="3200" spc="-1" strike="noStrike">
                <a:solidFill>
                  <a:srgbClr val="ff3300"/>
                </a:solidFill>
                <a:latin typeface="Arial"/>
              </a:rPr>
              <a:t>r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iew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 you can go to the last task! GO!                               </a:t>
            </a:r>
            <a:r>
              <a:rPr b="1" i="1" lang="en-US" sz="3200" spc="-1" strike="noStrike">
                <a:solidFill>
                  <a:srgbClr val="6600cc"/>
                </a:solidFill>
                <a:latin typeface="Comic Sans MS"/>
              </a:rPr>
              <a:t>W.Won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바탕"/>
              </a:rPr>
              <a:t>Write your </a:t>
            </a:r>
            <a:r>
              <a:rPr b="0" lang="ro-RO" sz="4000" spc="-1" strike="noStrike">
                <a:solidFill>
                  <a:srgbClr val="000000"/>
                </a:solidFill>
                <a:latin typeface="바탕"/>
              </a:rPr>
              <a:t>book re</a:t>
            </a:r>
            <a:r>
              <a:rPr b="0" lang="en-US" sz="4000" spc="-1" strike="noStrike">
                <a:solidFill>
                  <a:srgbClr val="000000"/>
                </a:solidFill>
                <a:latin typeface="바탕"/>
              </a:rPr>
              <a:t>view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4-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in on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Write your 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e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the book 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kshe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http://hk.wrs.yahoo.com/_ylt=A8tU321J_QpK.mMBdEi.ygt./SIG=12dp79b7e/EXP=1242320585/**http%3A//img360.imageshack.us/img360/6294/willywonka4ql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3505320" y="1295280"/>
            <a:ext cx="5486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Task Four (Spea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Good job! Here comes the last task. Now, you need to do a small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presentation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ro-RO" sz="2800" spc="-1" strike="noStrike">
                <a:solidFill>
                  <a:srgbClr val="6600cc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your </a:t>
            </a:r>
            <a:r>
              <a:rPr b="1" lang="ro-RO" sz="2800" spc="-1" strike="noStrike">
                <a:solidFill>
                  <a:srgbClr val="6600cc"/>
                </a:solidFill>
                <a:latin typeface="Comic Sans MS"/>
              </a:rPr>
              <a:t>re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view.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Other students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are watching you and </a:t>
            </a:r>
            <a:r>
              <a:rPr b="1" lang="ro-RO" sz="2800" spc="-1" strike="noStrike">
                <a:solidFill>
                  <a:srgbClr val="6600cc"/>
                </a:solidFill>
                <a:latin typeface="Comic Sans MS"/>
              </a:rPr>
              <a:t>they will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ive you marks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. Try your be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MS Gothic"/>
              </a:rPr>
              <a:t>W.Wonka</a:t>
            </a:r>
            <a:r>
              <a:rPr b="1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4:17:43Z</dcterms:created>
  <dc:creator>cat</dc:creator>
  <dc:description/>
  <dc:language>en-US</dc:language>
  <cp:lastModifiedBy>Sun</cp:lastModifiedBy>
  <dcterms:modified xsi:type="dcterms:W3CDTF">2011-02-27T00:01:40Z</dcterms:modified>
  <cp:revision>28</cp:revision>
  <dc:subject/>
  <dc:title>Film: Charlie and the Chocolate Factory Class: P.4  Language:  Modal Verbs and Action Verbs</dc:title>
</cp:coreProperties>
</file>